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C35-BA9F-474C-BC39-F857ADDF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9A9-5633-49E4-83C5-177FE86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599-3E3C-4E0A-8796-064542EB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B71-8BAF-4B0D-9CD8-9DD186F8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2D9-DCB7-494A-B5B1-85F2DB7C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511-2B5D-4F9D-9F9B-2F0D4937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842-3591-49A8-9E09-C49B737E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099-E9B1-44EB-A9BD-6B92ED6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F92-D8D6-48B8-A898-0E4AD0A3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B40-F2B9-47AA-A6CE-57843EFC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029-9B34-48F9-BCA2-96DF9CB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751-4D71-4001-98F3-2E3EF3EF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760D-71C1-4234-A7C9-B5C92BCF1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astern Woodlands Indi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733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34934" r="0" b="0"/>
          <a:stretch/>
        </p:blipFill>
        <p:spPr>
          <a:xfrm>
            <a:off x="404640" y="2590920"/>
            <a:ext cx="83347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00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56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23261" r="0" b="-19086"/>
          <a:stretch/>
        </p:blipFill>
        <p:spPr>
          <a:xfrm>
            <a:off x="1752480" y="2895480"/>
            <a:ext cx="5629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18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42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4880" y="129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5114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724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83400" y="2133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18:48Z</dcterms:modified>
  <cp:revision>22</cp:revision>
  <dc:subject/>
  <dc:title>No Slide Title</dc:title>
</cp:coreProperties>
</file>